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98E9-075B-46CB-9BBF-87B9E6CD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1CAA-85FC-43BA-A97D-250105FA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0917-CE96-4088-BC72-F623B61CF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D7E9-0E32-4326-8B60-CF0ACC60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5133-3ED7-4399-9121-536DDE23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B89C-6281-47AC-B3DA-41CC5591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AB08-6C37-4576-9519-80AA74B3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E053-814D-4C72-9D30-A73BF7303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FFD4-7FB5-43C5-B2A1-6344D508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4753-FEF1-4FDA-A7DA-A052ABD5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C2BA-2168-4C4E-AE13-48335DB1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6710-3D43-4F57-A7A5-3B64262C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58FF-B0EE-4F07-A2E1-1A7786FD9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learning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á aplikácia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tej Morav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čí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1840" y="2008080"/>
            <a:ext cx="8661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tvorený študentmi na štýl wiki so študijnými materiálmi z matfyz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história skúšok, história minuloročných písomiek projektov a zadaní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žnosť editovania testov a prerábaní do interaktívnej formy s automatickým hodnote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dnášky a iné materiály k predme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hlavná idea projektu je zhotoviť jedno veľké úložisko dát, ktoré pomôžu študentovi s daným predme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vigá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1840" y="2008080"/>
            <a:ext cx="866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vigácia vo viacerých vrstvá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hlavná navigácia sekcia s predmetmi, poradňa, fór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sekcie jednotlivých predmetov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ateriály od vyučujúceho, vypraované poznámky od nadšencov..., história skúšok, písomiek, projektov... + hotové vypracovania alebo možnosť vypracovania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ánovač a te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1840" y="2008080"/>
            <a:ext cx="866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žnosť spoločného dopĺnania plánovača udalos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žnosť riešenia testov z daného predmetu tvorené užívateľmi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1:50:17Z</dcterms:created>
  <dc:creator>matej</dc:creator>
  <dc:description/>
  <dc:language>en-US</dc:language>
  <cp:lastModifiedBy>matej</cp:lastModifiedBy>
  <dcterms:modified xsi:type="dcterms:W3CDTF">2008-12-01T12:51:27Z</dcterms:modified>
  <cp:revision>2</cp:revision>
  <dc:subject/>
  <dc:title>E-learningová aplikácia  Matej Moravčík</dc:title>
</cp:coreProperties>
</file>